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8B837-CE76-48B3-9847-17A8BE0D80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E3732-1B27-4152-9CDD-E1A63DFC0F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BDCA8-05B5-4121-96E6-B10A329698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B41F5-9097-4D50-A345-EBF71B71E8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5A928-42C2-49A4-A4A4-D385D8DF59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03CF2-066C-4351-836B-93BACEA7E6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E42A5-7557-44E8-B5BE-40C6AC8C32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360E8-2357-40F8-B110-8038145635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44114-F314-4159-A8F3-89EE851254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2E30A-E5EB-414E-8939-DA0A97E019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752A7-B68D-446F-BEA1-B525CB72F5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9523E-A2F1-4731-A52B-C10611F4FA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c063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063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505320" y="62481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D9535-26B4-48C2-BD30-98FE87EAD3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8109000" y="6019920"/>
            <a:ext cx="882720" cy="76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981080" y="1447560"/>
            <a:ext cx="64771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7251840" y="5257800"/>
            <a:ext cx="1587240" cy="1365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04920" y="5334120"/>
            <a:ext cx="1044360" cy="1044360"/>
          </a:xfrm>
          <a:prstGeom prst="rect">
            <a:avLst/>
          </a:prstGeom>
          <a:solidFill>
            <a:srgbClr val="dc06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457200"/>
            <a:ext cx="1044360" cy="1044720"/>
          </a:xfrm>
          <a:prstGeom prst="rect">
            <a:avLst/>
          </a:prstGeom>
          <a:solidFill>
            <a:srgbClr val="dc06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676520"/>
            <a:ext cx="1044360" cy="1044360"/>
          </a:xfrm>
          <a:prstGeom prst="rect">
            <a:avLst/>
          </a:prstGeom>
          <a:solidFill>
            <a:srgbClr val="dc06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2895480"/>
            <a:ext cx="1044360" cy="1044720"/>
          </a:xfrm>
          <a:prstGeom prst="rect">
            <a:avLst/>
          </a:prstGeom>
          <a:solidFill>
            <a:srgbClr val="dc06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4114800"/>
            <a:ext cx="1044360" cy="1044720"/>
          </a:xfrm>
          <a:prstGeom prst="rect">
            <a:avLst/>
          </a:prstGeom>
          <a:solidFill>
            <a:srgbClr val="dc06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rcRect l="0" t="23358" r="0" b="19737"/>
          <a:stretch/>
        </p:blipFill>
        <p:spPr>
          <a:xfrm>
            <a:off x="304920" y="3313080"/>
            <a:ext cx="8458200" cy="26701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28600" y="2416320"/>
            <a:ext cx="64771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Development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8458200" cy="18874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523880" y="6400800"/>
            <a:ext cx="6553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ril 13,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-208080"/>
            <a:ext cx="9144000" cy="706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6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rcRect l="0" t="0" r="0" b="59023"/>
          <a:stretch/>
        </p:blipFill>
        <p:spPr>
          <a:xfrm>
            <a:off x="0" y="0"/>
            <a:ext cx="91440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76320"/>
            <a:ext cx="9144000" cy="668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-228600" y="76320"/>
            <a:ext cx="9372600" cy="66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-228600" y="87480"/>
            <a:ext cx="9372600" cy="66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-228600" y="85680"/>
            <a:ext cx="9372600" cy="66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-152280" y="141120"/>
            <a:ext cx="9296280" cy="66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-152280" y="141120"/>
            <a:ext cx="9296280" cy="66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27000"/>
            <a:ext cx="7848720" cy="68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848720" cy="6831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rcRect l="0" t="4464" r="0" b="48688"/>
          <a:stretch/>
        </p:blipFill>
        <p:spPr>
          <a:xfrm>
            <a:off x="0" y="2590920"/>
            <a:ext cx="7696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7T22:14:46Z</dcterms:created>
  <dc:creator>TwogoodVA</dc:creator>
  <dc:description/>
  <dc:language>en-US</dc:language>
  <cp:lastModifiedBy>mayzj</cp:lastModifiedBy>
  <dcterms:modified xsi:type="dcterms:W3CDTF">2009-04-13T15:17:49Z</dcterms:modified>
  <cp:revision>74</cp:revision>
  <dc:subject/>
  <dc:title>Becoming an Architect</dc:title>
</cp:coreProperties>
</file>